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DC6-C041-41AC-B902-12A7CBFB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D90-346D-42CB-91B2-287B17E2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4D8-05DB-4DA6-97AD-FCB42466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BC4-C098-4E0A-A865-F09360F3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D3DB-E070-4E2C-B84F-FD17233C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66AF-1082-4779-8943-DAE51FB1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C64A-49CE-439A-A81D-10FD717C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7910-6E44-4168-AEAE-78590FB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802F-6A60-4CBA-B58B-E729B2D5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1814-79F9-43EF-8A02-AA3CDC35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D359-B50F-41A1-820C-20E9381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59C-173E-49DF-A84D-BD471CF6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319F-C08F-43D7-8A7E-0A24213E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08EF-C04E-49E1-84C8-70235F8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481-5091-4890-9D24-7EC7AD3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03D7-723A-47B5-A4CC-C566A35C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3A0C-F414-4A3E-937A-7E6F9653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BF2-F619-4449-9038-794CD88F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760-8830-4567-B4AE-AEA9BF5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695-C339-4D31-9FDC-346EF21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BEC-E62E-469D-98A4-D248C4A7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FD5-EFBE-46B2-B9A0-EF8FCF6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A7F-C91F-4D4B-BB61-1E0114C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96C-9D74-4D84-A33E-52588702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AD03-97CF-4AD3-A94E-D9E525D6D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983B-554E-4D36-A066-18D71D181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La Casa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: La Se</a:t>
            </a:r>
            <a:r>
              <a:rPr b="0" lang="es-NI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 Rous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a Cas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a casa muy grande y eleg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05b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 una cocina.  La cocina es nueva y bon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85880" y="2133720"/>
            <a:ext cx="44244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medor es muy lujoso y mod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09680" y="2128680"/>
            <a:ext cx="5562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ala es muy grande y luj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b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es muy nuevo y gran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0" y="2459160"/>
            <a:ext cx="502920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uarto es muy grande, lujoso, y bon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20000" cy="387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atio es pe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ero mod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5105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Jard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jardin es preci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350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9d7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08:08Z</dcterms:created>
  <dc:creator>erousseau</dc:creator>
  <dc:description/>
  <dc:language>en-US</dc:language>
  <cp:lastModifiedBy>erousseau</cp:lastModifiedBy>
  <dcterms:modified xsi:type="dcterms:W3CDTF">2011-03-25T17:52:21Z</dcterms:modified>
  <cp:revision>8</cp:revision>
  <dc:subject/>
  <dc:title>La Casa</dc:title>
</cp:coreProperties>
</file>